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1C2-9633-4A99-90B6-5F1A7BE8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7007-25E5-43FE-B022-D812AAE3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3F5-A530-4331-8732-90873831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78E-2DCF-4B27-8647-7F3853C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256-D887-4B42-BEA7-33A18043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C54-E792-4C3C-A94C-825696CF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294-5FA5-4C55-BA9D-8225589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8FE-27F5-45A2-8705-F3B33CC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DCB-9F37-4669-8975-18E4F296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513-C491-4A4A-9BD5-E7D2FC0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0F2-1952-4927-AC99-EE8F2F2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4D7-90D8-4191-BFF2-E4BEED5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57A-C20F-4F71-9AF7-D656753B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392-5F4F-4707-B5A1-C95473B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C22-1800-490E-BECE-9A2A7EA9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ónde quieres viv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ueva York. Yo tengo catorce años. Yo tengo una hermana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Adi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ero vivir en Ital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004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 bien, Yo quero vivir en 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1962000" y="449280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Ka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ir en Hawaii, Alyssa y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, Italia no es una buena parte donde vivi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518148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ago querer es vivir en Sp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0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62000" y="601668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ir en Califor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0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4267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Photo on 12-6-12 at 9.37 AM.jpg"/>
          <p:cNvPicPr/>
          <p:nvPr/>
        </p:nvPicPr>
        <p:blipFill>
          <a:blip r:embed="rId11"/>
          <a:stretch/>
        </p:blipFill>
        <p:spPr>
          <a:xfrm>
            <a:off x="1962000" y="251460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hoto on 12-6-12 at 9.45 AM.jpg"/>
          <p:cNvPicPr/>
          <p:nvPr/>
        </p:nvPicPr>
        <p:blipFill>
          <a:blip r:embed="rId12"/>
          <a:stretch/>
        </p:blipFill>
        <p:spPr>
          <a:xfrm>
            <a:off x="1905120" y="3200400"/>
            <a:ext cx="723960" cy="482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Photo on 12-6-12 at 9.46 AM.jpg"/>
          <p:cNvPicPr/>
          <p:nvPr/>
        </p:nvPicPr>
        <p:blipFill>
          <a:blip r:embed="rId13"/>
          <a:stretch/>
        </p:blipFill>
        <p:spPr>
          <a:xfrm>
            <a:off x="1905120" y="38098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Photo on 12-6-12 at 9.46 AM.jpg"/>
          <p:cNvPicPr/>
          <p:nvPr/>
        </p:nvPicPr>
        <p:blipFill>
          <a:blip r:embed="rId14"/>
          <a:stretch/>
        </p:blipFill>
        <p:spPr>
          <a:xfrm>
            <a:off x="533520" y="457200"/>
            <a:ext cx="1257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40Z</dcterms:modified>
  <cp:revision>110</cp:revision>
  <dc:subject/>
  <dc:title>Profile</dc:title>
</cp:coreProperties>
</file>